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33.png" ContentType="image/png"/>
  <Override PartName="/ppt/media/image16.wmf" ContentType="image/x-wmf"/>
  <Override PartName="/ppt/media/image13.png" ContentType="image/png"/>
  <Override PartName="/ppt/media/image34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35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6.png" ContentType="image/png"/>
  <Override PartName="/ppt/media/image5.wmf" ContentType="image/x-wmf"/>
  <Override PartName="/ppt/media/image2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4825" cy="96297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EF1-A02A-48DE-A3D0-CBB97BC8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FE4-F6D3-4B20-B88E-A6FAB6CE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C881-C3B3-40F6-A5B0-D3746744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ED2-CCAB-4266-817F-7111423C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1CB-C0E8-4D46-A75D-501E7BF2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161-7AB9-418A-BEE4-7B3FEEBE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697-3B0A-4406-9202-6E5C6880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D4E-49DB-401A-8968-BBD93163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5BF-D151-457B-A073-33F55FCB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55E-4929-4658-9424-D314194B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BA5-3840-4E95-B30A-45533FB6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F4C-C5F3-4C1E-86D4-B55BF73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18AB-D5A8-4FDF-AD5E-F4F6C9AF2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/websites/emedicine/orthoped/images/Large/782782Image06.jpg&amp;template=izoom2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medicine.com/cgi-bin/foxweb.exe/makezoom@/em/makezoom?picture=/websites/emedicine/orthoped/images/Large/75figure_1.jpg&amp;template=izoom2" TargetMode="External"/><Relationship Id="rId2" Type="http://schemas.openxmlformats.org/officeDocument/2006/relationships/hyperlink" Target="http://www.emedicine.com/cgi-bin/foxweb.exe/makezoom@/em/makezoom?picture=/websites/emedicine/orthoped/images/Large/76figure_2.jpg&amp;template=izoom2" TargetMode="External"/><Relationship Id="rId3" Type="http://schemas.openxmlformats.org/officeDocument/2006/relationships/hyperlink" Target="http://www.emedicine.com/cgi-bin/foxweb.exe/makezoom@/em/makezoom?picture=/websites/emedicine/orthoped/images/Large/75figure_1.jpg&amp;template=izoom2" TargetMode="External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NIFESTATIONS RHUMATOLOGIQUES DE LA MALADIE DIABE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. NIAM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vice de Médecine Inter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ôpital Militaire Avicenne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SULITE RÉTRACT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Épaule bloquée par rétraction capsulai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Fréqu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10 %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(diabète) vs </a:t>
            </a: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2,5%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(population général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Pal B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.  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J Orthop Rheumatol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96, 9, 22-27)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Observée dans </a:t>
            </a: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50 %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des patients atteints de 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Poirier JL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 Rhum,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1989, 56, 511-51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lle peut révéler un diabète de I ou 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lin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téréotypée avec 3 phases : douleur, raideur puis gué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Dominée par une limitation de l’ensemble des mobilités actives et passives de l’articulation scapulo-humé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a raideur est invalid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Élévation antérieure et l’abduction ( &lt; 90° ),  </a:t>
            </a: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la rotation externe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 ( &lt; 10-15° ) et la rotation interne ( &lt; 90° 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e distinguent par une évolution souvent bilatérale, récurrente et plus prolongée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Griggs SM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J Bone Joint Surg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2000, 82, 1398-140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VS et CRP sont no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adiograph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ouvent normales, parfois déminéral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agnostic différentie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rthrite septique,  +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rthrose de l’épau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équelle de fractu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Ostéochondromatos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P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émarthrose ……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cintigraphie : normale dans 30 % des cas, parfois fixation de la tête humérale ou de la capsule uniqu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rthrographie : diagnostic de certitude : baisse de la capacité et augmentation de la pression de remplissage de la cavité articulaire &lt;10 ml ( VN: 20- 30 ml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10280" y="76320"/>
            <a:ext cx="20574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aitement médical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Repos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ntalg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s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AI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nt peu effica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calciton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’est efficace que pour les formes douloureu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s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infiltrati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ont efficaces sur la doule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rééduc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st le traitement de référence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ysiothérapie à visée antalgiqu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bilisation douce dans le respect de l’indolen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mettant un gain de mobilité lent mais progressif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nq premiers jours (M. passive) : 2 séances ( 1 H) par jou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mier mois  (M. passive) : 1 séance par jour ( 5 jours/7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uxième mois  (M. active) : ( 2 fois / semain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7680" y="5632560"/>
            <a:ext cx="8524800" cy="833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A l’état natif, la peau est souple et flexible, alors qu’elle se rigidifie après son dépècement et son séchage. Grâce à de longues heures de tannage (rééducation), elle peut retrouver une certaine souplesse la rendant plus utilisable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McLaughlin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44200" y="5095800"/>
            <a:ext cx="1694160" cy="307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00"/>
                </a:solidFill>
                <a:latin typeface="Times New Roman"/>
              </a:rPr>
              <a:t>Protocole de Liot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/>
          </p:cNvPr>
          <p:cNvSpPr/>
          <p:nvPr/>
        </p:nvSpPr>
        <p:spPr>
          <a:xfrm>
            <a:off x="1157400" y="2666880"/>
            <a:ext cx="6838920" cy="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es traitements « agressifs » 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Techniques réservées aux formes sévères et handicapantes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La distension capsulaire: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jection sous pression de sérum salé au cours d’une arthrographie, suivie d’une infiltration et d’une rééducation préco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Capsulotomie chirurgicale sous arthroscop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Manipulation sous AG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0" i="1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Times New Roman"/>
              </a:rPr>
              <a:t>Inconvéni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ucune étude ne montre leur supériorité sur la rééducation seu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ont efficaces à court terme, mais à long terme les résultats se confondent avec l’évolution naturelle de la capsulite rétract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39480" y="6188040"/>
            <a:ext cx="416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1: Noel E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 Rh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96, 62 :7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2: Ogilvie-Harris DJ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. Clin Orthop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95, 319, 238-2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Plusieurs études ont montré une corrélation de la capsulite rétractile avec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’ancienneté du diabè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’existence de complications diabétiques : rétinopathie et néphropathie. 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( Escalante A. </a:t>
            </a:r>
            <a:r>
              <a:rPr b="0" i="1" lang="fr-FR" sz="1200" spc="-1" strike="noStrike">
                <a:solidFill>
                  <a:srgbClr val="ffff00"/>
                </a:solidFill>
                <a:latin typeface="Times New Roman"/>
              </a:rPr>
              <a:t>Arthritis Care Res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, 1999, 12, 277-286)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Liens avec l’algodystrophie: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Times New Roman"/>
              </a:rPr>
              <a:t>Étude histologique 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rolifération de fibroblastes et de myoblastes identique à celle de la maladie de dupuytren et aux formes fibrosantes d’algodystroph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ésions vasculaires similaires à la microangiopathie diabét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66680" y="3048120"/>
          <a:ext cx="7467840" cy="151596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sulite rétract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godystroph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ase cha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és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minér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og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uchet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ixation à la scintigraph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lis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Étend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lciton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ic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LADIE DE DUPUYTREN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670800" y="3429000"/>
            <a:ext cx="23968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’est un épaississement fibreux de l’aponévrose palm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dule et bride fibreuse qui limitent l’extension de la MC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ltérieurement, l’atteinte s’entend aux doigts conduisant à un flessu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s lésion prédominent sur 4, 5 et 3 rayon. L’atteinte du médius et du pouce est ra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atteinte bilatérale s’observe dans la moitié des c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320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4548240"/>
          <a:ext cx="8915400" cy="70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48240"/>
                    <a:ext cx="891540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19600" y="5116680"/>
            <a:ext cx="35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P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= atteinte palmaire, </a:t>
            </a:r>
            <a:r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D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= atteinte digitale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32360" y="565308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Classification de Tub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03680" y="560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2895480" cy="1874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2971800" cy="182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4800" y="3048120"/>
            <a:ext cx="234036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tade précoce: ombil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1320" y="5486400"/>
            <a:ext cx="1509480" cy="307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Forme nodulai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6120" y="3581280"/>
            <a:ext cx="4458600" cy="5644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e avec brides et flexion irréductible du doig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éficit d’extension = 60° ( Stade II) de Tubian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720" y="498600"/>
            <a:ext cx="27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ormes cli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648320" y="762120"/>
            <a:ext cx="358272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380880"/>
            <a:ext cx="7925040" cy="19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soci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die de la peyroni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die de Ledderho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iroarthropathie: la MD est présente chez la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oitié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 diabétiques souffrant d’une CA et chez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1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s diabétiques sans 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0880" y="3505320"/>
            <a:ext cx="8381880" cy="1828800"/>
            <a:chOff x="380880" y="3505320"/>
            <a:chExt cx="8381880" cy="1828800"/>
          </a:xfrm>
        </p:grpSpPr>
        <p:grpSp>
          <p:nvGrpSpPr>
            <p:cNvPr id="90" name=""/>
            <p:cNvGrpSpPr/>
            <p:nvPr/>
          </p:nvGrpSpPr>
          <p:grpSpPr>
            <a:xfrm>
              <a:off x="386640" y="3507480"/>
              <a:ext cx="8369280" cy="1823400"/>
              <a:chOff x="386640" y="3507480"/>
              <a:chExt cx="8369280" cy="18234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386640" y="3507480"/>
                <a:ext cx="1801440" cy="342000"/>
                <a:chOff x="386640" y="3507480"/>
                <a:chExt cx="1801440" cy="342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43520" y="3507480"/>
                  <a:ext cx="1686600" cy="34200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86640" y="3507480"/>
                  <a:ext cx="1801440" cy="34200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188440" y="3507480"/>
                <a:ext cx="1932840" cy="342000"/>
                <a:chOff x="2188440" y="3507480"/>
                <a:chExt cx="1932840" cy="342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245320" y="3507480"/>
                  <a:ext cx="1818000" cy="34200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Rétinopath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188440" y="3507480"/>
                  <a:ext cx="1932840" cy="34200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4122000" y="3507480"/>
                <a:ext cx="2431440" cy="342000"/>
                <a:chOff x="4122000" y="3507480"/>
                <a:chExt cx="2431440" cy="342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179240" y="3507480"/>
                  <a:ext cx="2316960" cy="34200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ffffff"/>
                      </a:solidFill>
                      <a:latin typeface="Times New Roman"/>
                    </a:rPr>
                    <a:t>Polyneuropath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122000" y="3507480"/>
                  <a:ext cx="2431440" cy="34200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553800" y="3507480"/>
                <a:ext cx="2201760" cy="342000"/>
                <a:chOff x="6553800" y="3507480"/>
                <a:chExt cx="2201760" cy="342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611400" y="3507480"/>
                  <a:ext cx="2086560" cy="34200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Néphropathi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553800" y="3507480"/>
                  <a:ext cx="2201760" cy="34200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386640" y="3849480"/>
                <a:ext cx="1801440" cy="493560"/>
                <a:chOff x="386640" y="3849480"/>
                <a:chExt cx="1801440" cy="4935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43520" y="3849480"/>
                  <a:ext cx="168660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6640" y="3849480"/>
                  <a:ext cx="180144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188440" y="3849480"/>
                <a:ext cx="1152720" cy="493560"/>
                <a:chOff x="2188440" y="3849480"/>
                <a:chExt cx="1152720" cy="4935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245320" y="3849480"/>
                  <a:ext cx="103824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+ 12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188440" y="3849480"/>
                  <a:ext cx="115272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341880" y="3849480"/>
                <a:ext cx="779400" cy="493560"/>
                <a:chOff x="3341880" y="3849480"/>
                <a:chExt cx="779400" cy="4935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398760" y="3849480"/>
                  <a:ext cx="66456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- 16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41880" y="3849480"/>
                  <a:ext cx="77940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122000" y="3849480"/>
                <a:ext cx="1620720" cy="493560"/>
                <a:chOff x="4122000" y="3849480"/>
                <a:chExt cx="1620720" cy="4935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179240" y="3849480"/>
                  <a:ext cx="150624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+ 7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122000" y="3849480"/>
                  <a:ext cx="162072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743080" y="3849480"/>
                <a:ext cx="810360" cy="493560"/>
                <a:chOff x="5743080" y="3849480"/>
                <a:chExt cx="810360" cy="4935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800680" y="3849480"/>
                  <a:ext cx="69552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-20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743080" y="3849480"/>
                  <a:ext cx="81036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553800" y="3849480"/>
                <a:ext cx="1391040" cy="493560"/>
                <a:chOff x="6553800" y="3849480"/>
                <a:chExt cx="13910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611400" y="3849480"/>
                  <a:ext cx="127620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+ 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53800" y="3849480"/>
                  <a:ext cx="139104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945560" y="3849480"/>
                <a:ext cx="810360" cy="493560"/>
                <a:chOff x="7945560" y="3849480"/>
                <a:chExt cx="810360" cy="4935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002440" y="3849480"/>
                  <a:ext cx="69552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00"/>
                      </a:solidFill>
                      <a:latin typeface="Times New Roman"/>
                    </a:rPr>
                    <a:t>- 19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945560" y="3849480"/>
                  <a:ext cx="81036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86640" y="4343400"/>
                <a:ext cx="1801440" cy="493920"/>
                <a:chOff x="386640" y="4343400"/>
                <a:chExt cx="1801440" cy="4939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43520" y="4343400"/>
                  <a:ext cx="168660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CA 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86640" y="4343400"/>
                  <a:ext cx="180144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188440" y="4343400"/>
                <a:ext cx="1152720" cy="493920"/>
                <a:chOff x="2188440" y="4343400"/>
                <a:chExt cx="1152720" cy="4939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245320" y="4343400"/>
                  <a:ext cx="103824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32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188440" y="4343400"/>
                  <a:ext cx="115272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341880" y="4343400"/>
                <a:ext cx="779400" cy="493920"/>
                <a:chOff x="3341880" y="4343400"/>
                <a:chExt cx="779400" cy="4939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98760" y="4343400"/>
                  <a:ext cx="66456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2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341880" y="4343400"/>
                  <a:ext cx="77940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4122000" y="4343400"/>
                <a:ext cx="1620720" cy="493920"/>
                <a:chOff x="4122000" y="4343400"/>
                <a:chExt cx="1620720" cy="4939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179240" y="4343400"/>
                  <a:ext cx="150624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41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122000" y="4343400"/>
                  <a:ext cx="162072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5743080" y="4343400"/>
                <a:ext cx="810360" cy="493920"/>
                <a:chOff x="5743080" y="4343400"/>
                <a:chExt cx="810360" cy="4939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5800680" y="4343400"/>
                  <a:ext cx="69552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20,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743080" y="4343400"/>
                  <a:ext cx="81036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553800" y="4343400"/>
                <a:ext cx="1391040" cy="493920"/>
                <a:chOff x="6553800" y="4343400"/>
                <a:chExt cx="1391040" cy="493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6611400" y="4343400"/>
                  <a:ext cx="127620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33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53800" y="4343400"/>
                  <a:ext cx="139104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7945560" y="4343400"/>
                <a:ext cx="810360" cy="493920"/>
                <a:chOff x="7945560" y="4343400"/>
                <a:chExt cx="810360" cy="4939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002440" y="4343400"/>
                  <a:ext cx="695520" cy="49392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</a:rPr>
                    <a:t>26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945560" y="4343400"/>
                  <a:ext cx="810360" cy="49392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86640" y="4837320"/>
                <a:ext cx="1801440" cy="493560"/>
                <a:chOff x="386640" y="4837320"/>
                <a:chExt cx="1801440" cy="4935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43520" y="4837320"/>
                  <a:ext cx="168660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Dupuytren 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86640" y="4837320"/>
                  <a:ext cx="180144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188440" y="4837320"/>
                <a:ext cx="1152720" cy="493560"/>
                <a:chOff x="2188440" y="4837320"/>
                <a:chExt cx="1152720" cy="4935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245320" y="4837320"/>
                  <a:ext cx="103824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43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188440" y="4837320"/>
                  <a:ext cx="115272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341880" y="4837320"/>
                <a:ext cx="779400" cy="493560"/>
                <a:chOff x="3341880" y="4837320"/>
                <a:chExt cx="779400" cy="4935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398760" y="4837320"/>
                  <a:ext cx="66456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16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341880" y="4837320"/>
                  <a:ext cx="77940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22000" y="4837320"/>
                <a:ext cx="1620720" cy="493560"/>
                <a:chOff x="4122000" y="4837320"/>
                <a:chExt cx="1620720" cy="4935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79240" y="4837320"/>
                  <a:ext cx="150624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46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22000" y="4837320"/>
                  <a:ext cx="162072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743080" y="4837320"/>
                <a:ext cx="810360" cy="493560"/>
                <a:chOff x="5743080" y="4837320"/>
                <a:chExt cx="810360" cy="4935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800680" y="4837320"/>
                  <a:ext cx="69552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20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43080" y="4837320"/>
                  <a:ext cx="81036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553800" y="4837320"/>
                <a:ext cx="1391040" cy="493560"/>
                <a:chOff x="6553800" y="4837320"/>
                <a:chExt cx="1391040" cy="4935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611400" y="4837320"/>
                  <a:ext cx="127620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32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53800" y="4837320"/>
                  <a:ext cx="139104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945560" y="4837320"/>
                <a:ext cx="810360" cy="493560"/>
                <a:chOff x="7945560" y="4837320"/>
                <a:chExt cx="810360" cy="4935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002440" y="4837320"/>
                  <a:ext cx="695520" cy="493560"/>
                </a:xfrm>
                <a:prstGeom prst="rect">
                  <a:avLst/>
                </a:prstGeom>
                <a:noFill/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00"/>
                      </a:solidFill>
                      <a:latin typeface="Times New Roman"/>
                    </a:rPr>
                    <a:t>27,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45560" y="4837320"/>
                  <a:ext cx="810360" cy="493560"/>
                </a:xfrm>
                <a:prstGeom prst="rect">
                  <a:avLst/>
                </a:prstGeom>
                <a:noFill/>
                <a:ln w="0">
                  <a:solidFill>
                    <a:srgbClr val="ffcc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380880" y="3505320"/>
              <a:ext cx="8381880" cy="1828800"/>
            </a:xfrm>
            <a:prstGeom prst="rect">
              <a:avLst/>
            </a:prstGeom>
            <a:noFill/>
            <a:ln w="11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26680" y="5943600"/>
            <a:ext cx="84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orrélation de la CA et de la MD avec les complications dégénératives du diabète sucré ( n=280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Bergaoui N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 Rhum,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1991 ; 58 (3), 179-181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Affections associées au diabète de manière certain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heiroarthropath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Capsulite rétractile de l’épa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Maladie de Dupuytr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Phénomène de doigt à ressau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Syndrome du canal carpie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Manifestations rhumatologiques associées de manière incertaine au diabè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Maladie de Forestier et enthésopath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rthro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00cc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utres: Polyarthrite rhumatoïde, Pseudo syndrome de Sjögren, goutte…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Complications infectieus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Ostéoporose et diabè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66"/>
                </a:solidFill>
                <a:latin typeface="Times New Roman"/>
              </a:rPr>
              <a:t>Pied diabétique (exclu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699880" y="1600200"/>
            <a:ext cx="3067200" cy="86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drome de restri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mobilité articulaire ( SRM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14300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raitement médic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Infilt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d’hydrocortis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sous pression dans les cordes et nodules peut apporter des résultats probants entre des mains expertes, au prix d’un nombre élevé d’injections très douloureu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utr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médica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n’ont pas apporté la preuve de leur efficacité : vitamine E, allopurinol,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olchic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cupuncture, physiothérapi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’injection de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collagéna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st en cours d’é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00"/>
                </a:solidFill>
                <a:latin typeface="Times New Roman"/>
              </a:rPr>
              <a:t>Aponévrotomie à l’aiguille 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’est une technique ambulato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près désinfection, on injecte dans et à coté de la corde 1 à 3 ml d’un mélange de 4 ml de xylocaïne et 1 ml d’hydrocortancyl avec une aiguille  16- 5/1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ection percutanée des brides aponévrotiques à l’aide du biseau de l’aiguil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ouvements de va et vient en s’aidant de l’extension énergique du doig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ort d’une orthèse nocturne pendant un mo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lusieurs séances sont parfois nécessaires selon les stades de Tubi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ette technique nécessite un opérateur expérimen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ccidents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upture tendineuse ( 0,1 %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ésion d’un nerf collatéral ( 5 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Traitement chirurgical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ponevrectomie s’entendant sur les doigts par incisions digito-palmaires longitudinales avec parfois une greffe de peau to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38520" y="365760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vant interven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51120" y="64008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Greffe cutané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6400800"/>
            <a:ext cx="6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J +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42840" y="365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Aponevrectom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2077920"/>
            <a:ext cx="3505320" cy="1579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200400" cy="1600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09480" y="4756320"/>
            <a:ext cx="3473640" cy="1554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648320" y="4746600"/>
            <a:ext cx="35812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Indications 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ormes nodulaires : infil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ormes diffuses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ponévrotomie à l’aguille si sujet âgé ou terrain à ris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ntroverse entre aponévrotomie à l’aiguille et traitement chirurgic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5280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3870360"/>
            <a:ext cx="3886200" cy="1790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1100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00600" y="4122720"/>
            <a:ext cx="4114800" cy="1393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26920" y="6019920"/>
            <a:ext cx="352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Lermusiaux JL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 Rh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2001, 68, 542-54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YNDROME DU CANAL CARPI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743880" y="3568680"/>
            <a:ext cx="23238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36680" y="471600"/>
            <a:ext cx="86342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iopathique dans 50 % des 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l est observé chez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7 à 25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 diabétiques VS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ans la population génér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tte fréquence passe à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33 - 40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n de cheiroarthropathie stade II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3640" y="1946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981080"/>
          <a:ext cx="8153280" cy="169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15328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5235840" y="3668760"/>
            <a:ext cx="38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hammas M. 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J Hand Surg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95, 20 A, 109-1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343400"/>
            <a:ext cx="86868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e CC peut correspondre à un épaississement des tissus conjonctifs ou à une neuropath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a recherche systématique d’un diabète n’est pas nécessaire devant des symptômes de C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al B. 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Br J Rheumatol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86, 25, 412-413.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rait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iltration de corticoï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re tendon grand et petit palm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mbre: 1 à 2 ( intervalle de 6 moi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epsie +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mobil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raitement chirurg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throscopie ou à ciel ouv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esthésies très gên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ications nerveuses (déficit ou amyotrophi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G: CC ou neuropathie diab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715000" y="2222640"/>
            <a:ext cx="3327480" cy="1663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248520" y="5029200"/>
            <a:ext cx="2793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IGT À RESSAUT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"/>
          </p:cNvPr>
          <p:cNvSpPr/>
          <p:nvPr/>
        </p:nvSpPr>
        <p:spPr>
          <a:xfrm>
            <a:off x="1157400" y="2714760"/>
            <a:ext cx="6838920" cy="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2"/>
          </p:cNvPr>
          <p:cNvSpPr/>
          <p:nvPr/>
        </p:nvSpPr>
        <p:spPr>
          <a:xfrm>
            <a:off x="1157400" y="2714760"/>
            <a:ext cx="6838920" cy="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3"/>
          </p:cNvPr>
          <p:cNvSpPr/>
          <p:nvPr/>
        </p:nvSpPr>
        <p:spPr>
          <a:xfrm>
            <a:off x="1157400" y="2714760"/>
            <a:ext cx="6838920" cy="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’est une ténosynovite sténos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agnostic est fac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igt bloqué en flexion, le patient rapporte que l’extension forcée est possible mais très douloureu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e correspond au passage en force d’un nodule tendineux fibreux dans la gaine du fléchisseur du doigt correspond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 pouce, le médius et l’annulaire sont les doigts les plus souvent touch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 traitement repose sur l’infiltration de la gaine du fléchisseur et seulement en cas d’échec, à la chirurg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 fréquence est d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- 10 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hez le diabét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90720" y="4702320"/>
            <a:ext cx="2819160" cy="2079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05520" y="4713120"/>
            <a:ext cx="28191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5960" y="127080"/>
            <a:ext cx="8991720" cy="5671440"/>
            <a:chOff x="75960" y="127080"/>
            <a:chExt cx="8991720" cy="5671440"/>
          </a:xfrm>
        </p:grpSpPr>
        <p:sp>
          <p:nvSpPr>
            <p:cNvPr id="204" name=""/>
            <p:cNvSpPr/>
            <p:nvPr/>
          </p:nvSpPr>
          <p:spPr>
            <a:xfrm>
              <a:off x="2398680" y="127080"/>
              <a:ext cx="1160640" cy="276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Hyperglycémi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960" y="785880"/>
              <a:ext cx="807120" cy="276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Glycoly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59320" y="785880"/>
              <a:ext cx="1563120" cy="459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Voie du sorbit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et aldolase réduct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34920" y="785880"/>
              <a:ext cx="1101240" cy="459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Glycation n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enzymatiq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48920" y="858960"/>
              <a:ext cx="1235160" cy="276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uto- oxyd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3480" y="2687760"/>
              <a:ext cx="2116080" cy="2764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00"/>
                  </a:solidFill>
                  <a:latin typeface="Times New Roman"/>
                </a:rPr>
                <a:t>Production de radicaux lib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" y="3921120"/>
              <a:ext cx="5486400" cy="4590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ugmentation d’agencement croisé du collagène ( Cross- linkag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Accumulation de fibres de collagène  inflexibles dans les tis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69840" y="1347840"/>
              <a:ext cx="8557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Glucose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fructose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sorbit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10760" y="1660680"/>
              <a:ext cx="2433240" cy="6415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Produits terminaux de la gly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66"/>
                  </a:solidFill>
                  <a:latin typeface="Times New Roman"/>
                </a:rPr>
                <a:t>Réaction de Maill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Times New Roman"/>
                </a:rPr>
                <a:t>Protéines hétérocycliq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27240" y="3279600"/>
              <a:ext cx="463680" cy="3016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5" idx="2"/>
              <a:endCxn id="209" idx="1"/>
            </p:cNvCxnSpPr>
            <p:nvPr/>
          </p:nvCxnSpPr>
          <p:spPr>
            <a:xfrm flipH="1" rot="16200000">
              <a:off x="497520" y="1051200"/>
              <a:ext cx="1761480" cy="1797840"/>
            </a:xfrm>
            <a:prstGeom prst="bentConnector2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7" idx="2"/>
              <a:endCxn id="212" idx="0"/>
            </p:cNvCxnSpPr>
            <p:nvPr/>
          </p:nvCxnSpPr>
          <p:spPr>
            <a:xfrm>
              <a:off x="4185720" y="1252440"/>
              <a:ext cx="142200" cy="408960"/>
            </a:xfrm>
            <a:prstGeom prst="straightConnector1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>
              <a:off x="2563560" y="1258920"/>
              <a:ext cx="1080" cy="1319760"/>
            </a:xfrm>
            <a:prstGeom prst="straightConnector1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/>
            <p:nvPr/>
          </p:nvCxnSpPr>
          <p:spPr>
            <a:xfrm rot="5400000">
              <a:off x="4213800" y="1406520"/>
              <a:ext cx="1688400" cy="1161000"/>
            </a:xfrm>
            <a:prstGeom prst="bentConnector2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>
              <a:stCxn id="204" idx="2"/>
              <a:endCxn id="205" idx="0"/>
            </p:cNvCxnSpPr>
            <p:nvPr/>
          </p:nvCxnSpPr>
          <p:spPr>
            <a:xfrm flipH="1">
              <a:off x="478800" y="410760"/>
              <a:ext cx="2500920" cy="375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04" idx="2"/>
              <a:endCxn id="208" idx="0"/>
            </p:cNvCxnSpPr>
            <p:nvPr/>
          </p:nvCxnSpPr>
          <p:spPr>
            <a:xfrm>
              <a:off x="2979720" y="411120"/>
              <a:ext cx="2588040" cy="4485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0" name=""/>
            <p:cNvCxnSpPr>
              <a:stCxn id="204" idx="2"/>
              <a:endCxn id="206" idx="0"/>
            </p:cNvCxnSpPr>
            <p:nvPr/>
          </p:nvCxnSpPr>
          <p:spPr>
            <a:xfrm flipH="1">
              <a:off x="2540880" y="410760"/>
              <a:ext cx="438840" cy="375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04" idx="2"/>
              <a:endCxn id="207" idx="0"/>
            </p:cNvCxnSpPr>
            <p:nvPr/>
          </p:nvCxnSpPr>
          <p:spPr>
            <a:xfrm>
              <a:off x="2979360" y="410760"/>
              <a:ext cx="1207080" cy="3754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2244240" y="5338800"/>
              <a:ext cx="507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PHYSIOPATHOLOGIE DES SR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2"/>
              <a:endCxn id="209" idx="0"/>
            </p:cNvCxnSpPr>
            <p:nvPr/>
          </p:nvCxnSpPr>
          <p:spPr>
            <a:xfrm flipH="1">
              <a:off x="3340800" y="2309760"/>
              <a:ext cx="986760" cy="378720"/>
            </a:xfrm>
            <a:prstGeom prst="straightConnector1">
              <a:avLst/>
            </a:prstGeom>
            <a:ln w="9360">
              <a:solidFill>
                <a:srgbClr val="ffff66"/>
              </a:solidFill>
              <a:miter/>
              <a:tailEnd len="med" type="triangle" w="med"/>
            </a:ln>
          </p:spPr>
        </p:cxnSp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5791320" y="1981080"/>
              <a:ext cx="3276360" cy="17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1960" y="27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HEIROARTHROPAT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BETE ET RHUMATIS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ladie de Forestie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yperostose vertébrale ankylos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ladie ossifiante non inflammatoire des enthèses ( insertions des tendons, ligaments et capsu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abète type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évalence : 13 – 49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: douleur et raid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ach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achis cervical:  dysphag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achis dorsal et lombaire: compression nerveuse ou myélopathie +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quelette appendiculaire: arthrose + ossification des PM ( hanche, geno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3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nthèses: sacro-iliaques § SPA, épine calcané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1928880" cy="3352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895480" y="76320"/>
            <a:ext cx="1555920" cy="327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800600" y="76320"/>
            <a:ext cx="2122560" cy="327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7051680" y="76320"/>
            <a:ext cx="2016000" cy="327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939000" y="3429000"/>
            <a:ext cx="2128680" cy="3352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58680" y="3733920"/>
            <a:ext cx="2608200" cy="3047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826920" y="304920"/>
          <a:ext cx="7643880" cy="3624120"/>
        </p:xfrm>
        <a:graphic>
          <a:graphicData uri="http://schemas.openxmlformats.org/drawingml/2006/table">
            <a:tbl>
              <a:tblPr/>
              <a:tblGrid>
                <a:gridCol w="1911600"/>
                <a:gridCol w="1911240"/>
                <a:gridCol w="1909800"/>
                <a:gridCol w="19112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yperostose vertébrale ankylos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thr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 =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= 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otal = 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= 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= 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= 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 mo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5.2+/-8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5.0+/-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C ( Kg/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bète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afc9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ricémie ( micromol/l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4872240" y="4076640"/>
            <a:ext cx="41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Kiss C.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0" i="1" lang="en-GB" sz="1400" spc="-1" strike="noStrike">
                <a:solidFill>
                  <a:srgbClr val="ffff00"/>
                </a:solidFill>
                <a:latin typeface="Times New Roman"/>
              </a:rPr>
              <a:t>Rheumatology</a:t>
            </a:r>
            <a:r>
              <a:rPr b="0" lang="en-GB" sz="1400" spc="-1" strike="noStrike">
                <a:solidFill>
                  <a:srgbClr val="ffff00"/>
                </a:solidFill>
                <a:latin typeface="Times New Roman"/>
              </a:rPr>
              <a:t> (Oxford) 2002 Jan;41(1):27-3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560" y="4952880"/>
            <a:ext cx="727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ogénie: incon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ôle de l’hyperinsulinis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line = puissant facteur de croissance (IGF-1) § acromégal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ôle ostéoformateur et dans le développement des ossif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chémie des enthè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rai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itement symptomati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alg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- arthrosiques d’action l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ilt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vage articul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ide Hyaluron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éédu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aitement chirurgic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ssion médul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ssion radic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hèse ( hanche, gen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rthr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tudes contradicto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’arthrose des genoux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vent associée au diabète de type 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ôle de l’insulinopénie dans la formation des protéoglycanes et du collagè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ésit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hrose des mains: aucun l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96440" y="6400800"/>
            <a:ext cx="40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Sturmer T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Scand J Rheumatol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2001, 30, 3, 169-17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477120" y="685800"/>
            <a:ext cx="2590560" cy="1798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791320" y="3962520"/>
            <a:ext cx="3301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lyarthrite rhumatoï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rrain HLA commun avec diabète de type II: DR4 et D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ociation non confirm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yndrome sec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ésent chez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5 %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 diabé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uropathie autono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out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ériarthrite de l’hypertriglycéridém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ndinites calcifi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38680" y="4383000"/>
            <a:ext cx="34290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BÈTE ET INFECTIONS OSTÉO-ARTICULA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abète= susceptibilité aux infect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ticémies: 11 à 30 % diabétiqu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Staphylocoque et E. Col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onisation de la peau et des muqueuses chez les diabétiques par le staphyloco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élation entre l’hyperglycémie et la survenue des infections: action néfaste sur phagocytose, chimiotactisme et bactéricidie des PN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Times New Roman"/>
              </a:rPr>
              <a:t>Diabète et arthrite septi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45 cas d’AS ( 1983-1999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8 diabétiques: 17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Staphylocoque : 6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Infiltrations: 22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Étude prospective sur 3 a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Facteurs de risque de survenue d’infections articulai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ur les 4907 inc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37 cas d’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Diabète = facteur de risque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(OR = 3,3)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[1,1-10,1].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Kaandrop C.J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Arthritis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he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95, 38, 1819-18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23880" y="2133720"/>
          <a:ext cx="6096240" cy="1771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a-analyse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sé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quête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F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érie (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 &gt;60 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bè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othérap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5250600" y="3962520"/>
            <a:ext cx="3882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1: Dubost JJ.. 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ev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hum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, 2000,67, 1, 17-2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2:David-Chuassé J.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ev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hum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, 1981, 48, 69-7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3:El Hassani S. </a:t>
            </a:r>
            <a:r>
              <a:rPr b="0" i="1" lang="fr-FR" sz="1400" spc="-1" strike="noStrike">
                <a:solidFill>
                  <a:srgbClr val="ffff66"/>
                </a:solidFill>
                <a:latin typeface="Times New Roman"/>
              </a:rPr>
              <a:t>Rev Mar de Rhum</a:t>
            </a:r>
            <a:r>
              <a:rPr b="0" lang="fr-FR" sz="1400" spc="-1" strike="noStrike">
                <a:solidFill>
                  <a:srgbClr val="ffff66"/>
                </a:solidFill>
                <a:latin typeface="Times New Roman"/>
              </a:rPr>
              <a:t>, 2001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3, 17-2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74600" y="1066680"/>
            <a:ext cx="322560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sepsie +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Économie vis à vis des infiltr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57800" y="11145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072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Plusieurs synonymes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limited joint mobility syndrome, stiff hand syndrome,  syndrome de la main raide, main diabétique pseudo-sclérodermiq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Décrite chez le initialement dans le diabète de type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Prévalence 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8,4 et 58 %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vs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14 %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dans la population norma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34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es deux sexes, tous les âges, y compris les enfants où sa fréquence serait de 28 %.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 Grgic A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J. Pediatr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76, 88,584-58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Cliniqu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a peau de la main à une apparence cireuse, épaiss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’est une limitation non douloureuse de l’extension des MCP et des IP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ocalisation:IPP du 5° doigt surt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ffection souvent tolérée si bien que les patients sont surpris par l’intérêt de l’examinateur pour leurs m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Diabète et pyomyosi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fection aiguë du mus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uscles du tronc, hanch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erme: staphylocoque (90%), streptoco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i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hase invasive: douleurs musculaires isol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Phase suppurative: syndrome infectieux, masse crépi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agnost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onction de la masse muscul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Hémocult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IRM et TDM: diagnostic préco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nzymes musculaires: norm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raitement 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ATB + drain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iagnostic différentiel: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infarctus mu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ignes similai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Occlusion artérielle par une embolie athéromate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Diagnostic: IRM (hyper signal T2) + biopsie muscula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uérison spontané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93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S ET DIAB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6320" y="1015920"/>
            <a:ext cx="239400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bète et métabolisme osse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Bas niveau de remodela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ar dépression de la formation osseuse attribuée à l’insulinopén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arqueurs de remodel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arqueurs de form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baisse de l’ostéocalc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arqueurs de résorption: souvent augment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Perturbations du métabolisme Ph-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Hypercalciurie: diurèse osmotique + anomalies fonctionnelles de l’axe (PTH)- Vitamine D dont les valeurs restent no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ffet propre de la </a:t>
            </a: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icroangiopath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sur le tissu osse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82520" y="6411960"/>
            <a:ext cx="334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Pouillès J.M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h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2001, 68, 718-7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bète et D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abète de type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isse de la DMO d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 à 15 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 Z score : - 0,5 à - 1,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élation ave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ienneté de la malad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ésence de complications dégénér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uvais contrôle glycém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énopa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perte osseuse ralentit avec un meilleur contrôle glycém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iabète de type II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études contradicto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MO normale ou élevée ( effet de la surcharge pondéra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F(cohorte américaine): femmes diabétiques ont une perte osseuse fémorale plus rap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04760" y="6421320"/>
            <a:ext cx="6149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fr-FR" sz="1400" spc="-1" strike="noStrike">
                <a:solidFill>
                  <a:srgbClr val="ffffff"/>
                </a:solidFill>
                <a:latin typeface="Times New Roman"/>
              </a:rPr>
              <a:t>Study of osteoporotic fractures.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Schwartz AV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. J. Bone Miner Res,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2000, 15: 188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80880" y="228600"/>
            <a:ext cx="8382240" cy="6305760"/>
            <a:chOff x="380880" y="228600"/>
            <a:chExt cx="8382240" cy="630576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380880" y="228600"/>
              <a:ext cx="8296560" cy="38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80880" y="4735440"/>
              <a:ext cx="838224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Évolution sur deux ans de la DMO dans le diabète type I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Diabète type I : n= 54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Témoins: n = 25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Résultat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MO est plus basse chez les diabétiques / témoi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te osseuse plus accélérée chez les diabétiqu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Miazgowski T. </a:t>
              </a:r>
              <a:r>
                <a:rPr b="0" i="1" lang="fr-FR" sz="1400" spc="-1" strike="noStrike">
                  <a:solidFill>
                    <a:srgbClr val="ffff00"/>
                  </a:solidFill>
                  <a:latin typeface="Times New Roman"/>
                </a:rPr>
                <a:t>Osteoporos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i="1" lang="fr-FR" sz="1400" spc="-1" strike="noStrike">
                  <a:solidFill>
                    <a:srgbClr val="ffff00"/>
                  </a:solidFill>
                  <a:latin typeface="Times New Roman"/>
                </a:rPr>
                <a:t>Int,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(1998) 8:399–4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593640" y="228600"/>
            <a:ext cx="8093160" cy="6023160"/>
            <a:chOff x="593640" y="228600"/>
            <a:chExt cx="8093160" cy="602316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1066680" y="228600"/>
              <a:ext cx="7162920" cy="45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593640" y="5305320"/>
              <a:ext cx="8093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Comparaison de la DMO chez des femmes diabétiques et des témoin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Times New Roman"/>
                </a:rPr>
                <a:t>( Diabète type II) n = 65  / Témoins n = 4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imes New Roman"/>
                </a:rPr>
                <a:t>DMO élevée chez les diabétiques après ajustement sur âge et durée de M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Isaia G.C.</a:t>
              </a:r>
              <a:r>
                <a:rPr b="0" i="1" lang="fr-FR" sz="1400" spc="-1" strike="noStrike">
                  <a:solidFill>
                    <a:srgbClr val="ffff00"/>
                  </a:solidFill>
                  <a:latin typeface="Times New Roman"/>
                </a:rPr>
                <a:t>Acta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i="1" lang="fr-FR" sz="1400" spc="-1" strike="noStrike">
                  <a:solidFill>
                    <a:srgbClr val="ffff00"/>
                  </a:solidFill>
                  <a:latin typeface="Times New Roman"/>
                </a:rPr>
                <a:t>Diabeteol</a:t>
              </a:r>
              <a:r>
                <a:rPr b="0" lang="fr-FR" sz="1400" spc="-1" strike="noStrike">
                  <a:solidFill>
                    <a:srgbClr val="ffff00"/>
                  </a:solidFill>
                  <a:latin typeface="Times New Roman"/>
                </a:rPr>
                <a:t>, 1999, 36, 35-38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abète et risque fractur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’augmentation du risque fracturaire reste mal apprécié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Étude Mayo Clinic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Comparaison de 1000 diabétiques à 1000 témo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Absence de risque fracturaire sauf pour pour les Fr. de la cheville et du tib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Heath H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N Eng J Med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80, 303, 567-57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ohorte norvégienne (étude longitudinal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uivi de 35444 diabétiques âgés de plus de 50 ans sur une période de 9 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1643 nouvelles fractures de l’ES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R X par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6,9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en cas de diabète de type I, par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,9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pour le diabète de type I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RR X par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2,5 à 3,4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pour la fracture de la cheville et du p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Forsen L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Diabetologia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99, 42,920-9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u total, risque accru des fractures des MI même si la DMO n’est pas forcément abaissée: neuropathie, artériopathie, chutes fréqu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457200" y="76320"/>
            <a:ext cx="8460000" cy="6572160"/>
            <a:chOff x="457200" y="76320"/>
            <a:chExt cx="8460000" cy="657216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457200" y="76320"/>
              <a:ext cx="5816520" cy="65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6629400" y="457200"/>
              <a:ext cx="1981080" cy="1049400"/>
            </a:xfrm>
            <a:prstGeom prst="rect">
              <a:avLst/>
            </a:prstGeom>
            <a:ln w="9360">
              <a:solidFill>
                <a:srgbClr val="ff9900"/>
              </a:solidFill>
              <a:miter/>
            </a:ln>
          </p:spPr>
        </p:pic>
        <p:sp>
          <p:nvSpPr>
            <p:cNvPr id="274" name=""/>
            <p:cNvSpPr/>
            <p:nvPr/>
          </p:nvSpPr>
          <p:spPr>
            <a:xfrm>
              <a:off x="6459480" y="1600200"/>
              <a:ext cx="2457720" cy="73332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Les indications des mesur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quantitatives du tissu osseux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Times New Roman"/>
                </a:rPr>
                <a:t>Actualisation. Mars 2000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3"/>
            <a:stretch/>
          </p:blipFill>
          <p:spPr>
            <a:xfrm>
              <a:off x="6858000" y="3665520"/>
              <a:ext cx="1676520" cy="82404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276" name=""/>
            <p:cNvSpPr/>
            <p:nvPr/>
          </p:nvSpPr>
          <p:spPr>
            <a:xfrm>
              <a:off x="6590880" y="4648320"/>
              <a:ext cx="23234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Times New Roman"/>
                </a:rPr>
                <a:t>XV</a:t>
              </a:r>
              <a:r>
                <a:rPr b="1" lang="fr-FR" sz="1400" spc="-1" strike="noStrike" baseline="30000">
                  <a:solidFill>
                    <a:srgbClr val="ffff00"/>
                  </a:solidFill>
                  <a:latin typeface="Times New Roman"/>
                </a:rPr>
                <a:t>ème</a:t>
              </a:r>
              <a:r>
                <a:rPr b="1" lang="fr-FR" sz="1400" spc="-1" strike="noStrike">
                  <a:solidFill>
                    <a:srgbClr val="ffff00"/>
                  </a:solidFill>
                  <a:latin typeface="Times New Roman"/>
                </a:rPr>
                <a:t> Journée scientifiqu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Times New Roman"/>
                </a:rPr>
                <a:t>du  - PARIS 11 janvier 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te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439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eilleur traitement = équilibre glycémique ++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TH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méliore l’insulino- secrétion et diminue l’insulino- résist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Polémique: augmentation du risque d’IDM et d’AVC ( +29 %) et de Kc du sein ( +26 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Women's Health Initiative Study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Jama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juillet, 2002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SERM’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Bisphosphonat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Aucune donnée actuelle, absence d’AMM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TH: résultats promette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Lutte contre facteur de risque de chute. +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76280" y="4060800"/>
            <a:ext cx="1971720" cy="22478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6551640" y="3527280"/>
            <a:ext cx="1981080" cy="2781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505560" y="6437160"/>
            <a:ext cx="23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Facteurs de risque de chu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47240" y="6437160"/>
            <a:ext cx="24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Traitements de l’ostéoporo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404640"/>
            <a:ext cx="777240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Trois stades ont été décrits :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Gr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Stade I :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atteinte d’un doigt, généralement du V, unilaté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Stade II :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atteinte de deux doigts ou plus, essentiellement IV et 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imes New Roman"/>
              </a:rPr>
              <a:t>Stade III :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atteinte de tous les doigts des deux mains et d’une grosse articulation ( poignet ou coud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Évaluation quali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anœuvre de la prière ou de la main posée sur la 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Évaluation quantitative : mesure de la flexion maximale de la 3° et 5° MCP et du poig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L’enraidissement peut être constaté aux  niveau des coudes, épaules, poignets, hanches et chevil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38880" y="3962520"/>
            <a:ext cx="18367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diograph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lcifications vasculaires, érosions articul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pillaroscopi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ence des méga-capillai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isse de la densité des capillaires, dystrophie en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bancs de poisso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pécifique de la microangiopathie diabétiqu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opsie cutané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: fibrose derm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oration P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augmentation de l’épaisseur des membranes bas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68360" y="333360"/>
          <a:ext cx="8207280" cy="2209680"/>
        </p:xfrm>
        <a:graphic>
          <a:graphicData uri="http://schemas.openxmlformats.org/drawingml/2006/table">
            <a:tbl>
              <a:tblPr/>
              <a:tblGrid>
                <a:gridCol w="1641600"/>
                <a:gridCol w="1641240"/>
                <a:gridCol w="1641600"/>
                <a:gridCol w="1641240"/>
                <a:gridCol w="164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us st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e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de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bétiques n=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émoins n=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&lt;0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&lt;0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813680" y="2657520"/>
            <a:ext cx="56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équence de la CA chez des diabétiques et des témo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10160" y="3052800"/>
            <a:ext cx="35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Poirier JL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ev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Rhum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, 1989, 56 (7), 511-51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076640"/>
            <a:ext cx="87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La CA est corrélée 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à la durée du diabète.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Gamstedt A. </a:t>
            </a: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J. Intern. Med,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1993, 234, 189-193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à un mauvais équilibre glycémique : le risque de survenue de 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X  </a:t>
            </a:r>
            <a:r>
              <a:rPr b="1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 ,55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and l’Hb glyquée &gt; 8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X  </a:t>
            </a:r>
            <a:r>
              <a:rPr b="1" lang="fr-FR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4,54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and l’Hb glyquée &gt; 12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(Silverstein JH. 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Journal of Pediatrics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98, 132, 944 -7)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3160" y="189000"/>
            <a:ext cx="50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CA est corrélée aux complications dégénérativ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2864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280" y="700200"/>
            <a:ext cx="8964720" cy="43131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870720" y="6219720"/>
            <a:ext cx="522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Fernando D.J.S</a:t>
            </a:r>
            <a:r>
              <a:rPr b="0" i="1" lang="en-US" sz="1400" spc="-1" strike="noStrike">
                <a:solidFill>
                  <a:srgbClr val="ffff00"/>
                </a:solidFill>
                <a:latin typeface="Times New Roman"/>
              </a:rPr>
              <a:t>. British Journal of Rheumatology</a:t>
            </a: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, 1997, 36, 374-376.</a:t>
            </a:r>
            <a:r>
              <a:rPr b="0" lang="fr-FR" sz="1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5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Le diagnostic différentiel 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Camptodactylie par fibrose liée à l’activité professionnelle ( microtraumatismes). Seul le stade III est considéré comme spécifique du diabétiqu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clérodermie et CREST : nécrose pulpaire, téléangiéctasies, sclérodactylie, phénomène de rayna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Algodystroph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Le traitement est mal codifi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Meilleur équilibre glycémi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Rééducation mobilisatrice visant à restaurer une certaine souplesse et un gain d’exten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5:30:15Z</dcterms:created>
  <dc:creator>gggggg*</dc:creator>
  <dc:description/>
  <dc:language>en-US</dc:language>
  <cp:lastModifiedBy>Abdellah</cp:lastModifiedBy>
  <dcterms:modified xsi:type="dcterms:W3CDTF">2004-02-22T12:26:33Z</dcterms:modified>
  <cp:revision>85</cp:revision>
  <dc:subject/>
  <dc:title>MANIFESTATIONS RHUMATOLOGIQUES DU DIABÈTE. </dc:title>
</cp:coreProperties>
</file>